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BB25-87FB-43A6-9EA9-2D7BE2C28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A2DC-542C-4C1A-885F-5B55357C1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EF68-BB0F-42CC-B39B-8516AF70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E5E0-C9E3-47FB-9AA2-3894CD74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FAA-1AF5-4734-B6BA-2994694A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E22-01D9-41BE-8E5B-C019F871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BA9-5AAE-4453-A624-D9DEF93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5F2-2BAA-435C-B7A1-1C415FE9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CBF-086F-46E3-9F80-82D5A19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8D7-BE44-4833-87C4-B188ACA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5F8-999D-49C4-A9E8-4431C5A1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455-14E8-44E7-9A6C-EF8D98E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2BC-57E8-4B52-9A96-18F8D2F6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B82-62DE-4104-B308-1BC2D2F3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190-8154-4306-814D-D12A51F7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9A0-B434-4C76-A55B-B2538955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182B-6734-444B-8959-D277BB39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FD24-EFC2-4486-ADF8-44A63B83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76DF-4C4F-40CA-BDD2-2B5870D0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1309-3C94-45B7-8C04-15DC1BAF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EAB9-5385-43CF-AD4A-F207989C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9C52-2F18-4DEC-88F9-28F4E115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814F-D8CA-414D-A613-461819DE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D6B6-3571-4D77-B3E0-6FA065BA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A4FD-245E-413E-9CC2-6E2ABA5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6D5C-1C15-4D3E-B42F-2AC344FF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01F3-FB21-4F44-B066-E5B3FA31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C4A6-E3A9-40A0-AA78-9A1CE2B2A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38F5-9B8A-4616-B9AE-9F02DCF68A4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22" name="Subtitle 2"/>
          <p:cNvSpPr/>
          <p:nvPr/>
        </p:nvSpPr>
        <p:spPr>
          <a:xfrm>
            <a:off x="1643040" y="5857920"/>
            <a:ext cx="6400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штина фармацеутске комуник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Б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ubtitle 2"/>
          <p:cNvSpPr/>
          <p:nvPr/>
        </p:nvSpPr>
        <p:spPr>
          <a:xfrm>
            <a:off x="4000680" y="4929120"/>
            <a:ext cx="442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81040" y="2857320"/>
            <a:ext cx="85629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Процес маркетинга и менаџмента у фарм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азвијање стратегијског модела планир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ратегијско план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SMART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постављање циљ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јектовање маркетишког пл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лога тима у креирању маркетиншког пл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rcRect l="0" t="14300" r="0" b="5901"/>
          <a:stretch/>
        </p:blipFill>
        <p:spPr>
          <a:xfrm>
            <a:off x="971640" y="44280"/>
            <a:ext cx="7200720" cy="681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ализа маркетинг окруж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кросред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кросред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Porter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ве генеричке страте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Bowman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стратегијски с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нализа ј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rcRect l="0" t="18500" r="0" b="8001"/>
          <a:stretch/>
        </p:blipFill>
        <p:spPr>
          <a:xfrm>
            <a:off x="90000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егметирање, таргетиарање, позиционир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жиш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јерархија потре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Paret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в принци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гмент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иљање (таргетирањ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зиционирањ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rcRect l="0" t="14300" r="0" b="29003"/>
          <a:stretch/>
        </p:blipFill>
        <p:spPr>
          <a:xfrm>
            <a:off x="97164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тратегија фармацеутског маркетин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378900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ређивање циљ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ормулисање страте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намика тржиш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прављање маркетинг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rcRect l="0" t="12201" r="0" b="18504"/>
          <a:stretch/>
        </p:blipFill>
        <p:spPr>
          <a:xfrm>
            <a:off x="971640" y="-22320"/>
            <a:ext cx="7200720" cy="688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ортфолио произ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из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финисање терапеутских класа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пецифичности фармацеутске индустр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Животни циклус произ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Ansoff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ва матрица – Планирање 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стонска матр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0" t="18500" r="0" b="8001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13"/>
          <p:cNvSpPr/>
          <p:nvPr/>
        </p:nvSpPr>
        <p:spPr>
          <a:xfrm rot="21480000">
            <a:off x="5995800" y="639360"/>
            <a:ext cx="2587320" cy="3156120"/>
          </a:xfrm>
          <a:prstGeom prst="wedgeEllipseCallout">
            <a:avLst>
              <a:gd name="adj1" fmla="val -92796"/>
              <a:gd name="adj2" fmla="val 14328"/>
            </a:avLst>
          </a:prstGeom>
          <a:gradFill rotWithShape="0">
            <a:gsLst>
              <a:gs pos="0">
                <a:srgbClr val="004e9b"/>
              </a:gs>
              <a:gs pos="100000">
                <a:srgbClr val="004e9b"/>
              </a:gs>
            </a:gsLst>
            <a:lin ang="37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Non scholae, sed vitae discim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Haurit aquam cribro qui discere vult sine lib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ланирање и контролисање промотивних актив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иљеви промо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грисане маркетиншке комуник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цес комуник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ратегије маркетиншке комуник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андардне промотивне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лтернативне промотивне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трола програма интегрисаних маркетиншких комун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rcRect l="0" t="17452" r="0" b="18504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арадигматски заокрет у прода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ве парадигме прода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ракције продавац-корис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нализа потре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знање о потреб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лажење решења за потр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довољење потре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rcRect l="0" t="18500" r="0" b="18500"/>
          <a:stretch/>
        </p:blipFill>
        <p:spPr>
          <a:xfrm>
            <a:off x="971640" y="44280"/>
            <a:ext cx="7272360" cy="681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тратегије формирања ц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куренција на фармацеутском тржиш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куренција између лека са комерцијалним именом и генеричког л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куренција у оквиру генеричких лекова (Међународно незаштићено им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рмакоеконо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ређивање ц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рељивање производне цене лекова који се издају на рецеп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rcRect l="0" t="14300" r="0" b="18500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труктура дистрибуционих кан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стрибуциони мик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рмацеутски дистрибуцио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егрисане дистрибуционе страте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аћење, оцена плана дистрибу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Маркетинг позитивног трансфера,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lationship marke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ште оглашавање је Сиран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долази под твој пенџер и пева; људи су навикнути на то и игноришу г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ко Роксана одговори, настаје вез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ерили смо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brand relationship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иши нив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лашавање постаје дијалог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ји представља позивање у вез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Lester Wunder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70280" y="274680"/>
            <a:ext cx="422280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је постала једна од најомиљенијих маркетиншких тема последњих 15 годи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јважнији аспект ове дисциплине у развоју је нова централна улога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ата концепту везивања купца или купчеве лојалности као маркетиншки циљ компаниј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итиван комуникациони трансфер са купцем, може се посматрати као процес који утиче на купце, а купчева лојалност као резултат овог проце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ојални купци су више припремљени на  жалбе, попуњавање упитника и можда спремни да раде заједно са компанијом у стварању програма  задовољења купац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ћан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»feedback«</a:t>
            </a: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ише честих контаката, такође, дају снабдевачу (производ, услуга) више простора у маркетиншком смисл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жишни односи</a:t>
            </a: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 I/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2852280"/>
            <a:ext cx="864216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асични тржишни однос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ични тржишни односи представљају односе купац - добављач – купац, тројство понуђача – купаца – конкурента и физичку мрежу дистрибуције, који су опсежно третирани у општој теорији маркетин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јални тржишни однос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представљају неки  вид  класичног односа обогаћеног интеракцијом, у смислу сервисирања купаца и/или увођења купаца у програм лојал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жишни односи</a:t>
            </a: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II/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га однос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је изнад тржишних односа. Они обезбеђују платформу за тржишне односе и утичу на економије и друштва уопштено. Изнад овога с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га тржиш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групе за лобирање, јавна мишљења и политичка моћ)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га савез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ао што је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NAFTA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дружење за слободну трговину земаља Северне Америке, која поставља нове услове за маркетинг у Северној Америци) и друштвени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цијални однос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ао што су друштвене групе и етничке заједниц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но однос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 налазе у оквиру тржишних односа, то су, односи унутар организације (интеркомпанијски односи). Све унутрашње активности обавезно утичу и на спољашње односе. Примери нано односа су односи између интерних корисника и између интерних тржишта, која настају као последица повећане конкуренције за ограниченим ресурсима између независних профитних центара , дивизија и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B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тратешких пословних јединица) унутар организације. Граница  између спољашње и унутрашње усмерених односа су понекад нејасне: то је више питање придавања важности / значаја одређеној врсти односа. На пример, физичка дистрибутивна мрежа је део логистичког тока производа, односи се на унутршњег као и на спољашњег корис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3"/>
          <p:cNvSpPr/>
          <p:nvPr/>
        </p:nvSpPr>
        <p:spPr>
          <a:xfrm>
            <a:off x="5572080" y="860400"/>
            <a:ext cx="2852640" cy="2928960"/>
          </a:xfrm>
          <a:prstGeom prst="wedgeEllipseCallout">
            <a:avLst>
              <a:gd name="adj1" fmla="val -73055"/>
              <a:gd name="adj2" fmla="val 19574"/>
            </a:avLst>
          </a:prstGeom>
          <a:gradFill rotWithShape="0">
            <a:gsLst>
              <a:gs pos="0">
                <a:srgbClr val="004e9b"/>
              </a:gs>
              <a:gs pos="100000">
                <a:srgbClr val="004e9b"/>
              </a:gs>
            </a:gsLst>
            <a:lin ang="7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Не учимо за школу већ за живот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Црпе воду решетом</a:t>
            </a:r>
            <a:r>
              <a:rPr b="0" i="1" lang="sr-Latn-RS" sz="1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 ко хоће да учи без књиг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ични тржишни одн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ичан однос – однос између добављача и потрош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о је исконски маркетиншки однос у којем се размењује вредност ( роба-новац) и представља основу послова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ична тријада – драма у троуглу купац-добављач-конкурен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 обележје сваке тржишне економије представља конкуренција. У конкурентском    надметању налазимо односе између три стране: између потрошача и актуелних добављача, између потрошача и добављачевих конкурената и коначно, између самих конкурен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ична мрежа – канали дистрибу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онална физичка дистрибуција и модерни менаџмент канала дистрибуције укључује робе, услуге, људе и информације који сачињавају мрежу одно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цијални тржишни однос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4       Односи запослених у маркетингу и продаји према купцима (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Full Time Marketers - FTM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и запослених у другим секторима према купцима (</a:t>
            </a:r>
            <a:r>
              <a:rPr b="0" i="1" lang="sl-SI" sz="2000" spc="-1" strike="noStrike">
                <a:solidFill>
                  <a:srgbClr val="000000"/>
                </a:solidFill>
                <a:latin typeface="Calibri"/>
              </a:rPr>
              <a:t>Part Time Marketers - PTM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и који раде у маркетинг и продајним одељењима –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FTM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су креатори професиноалних односа између добављача и купца. Сви други, који имају друге значајне функције ван сектора маркетинга и продаје, али и даље имају јачи или слабији, директан или индиректан утицај на купца су ПТМс. Постоји, такође, и допринос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FTM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PTM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зван организациј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5   Обезбеђивање услуга купцу – интеракција између купаца и пружалаца (провајдера) услу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ња и испорука услуга претпоставља купчев интерактивни однос са пружаоцем услуга, често се овај догађај означава и као моменат ист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цијални тржишни однос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6     Односи удружења потрошача и произвођача у којима долази до односа измеђ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ше појединаца на обе стран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ст бројних веза у односу на проценте креирања захтева вс. центре одлучивања, често се приказује као матрикс систе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кетинг неких индустријских и пословних организација често подразумева    контакте између више појединаца и са корисникове стране и са стране добављач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7       Однос са купцима нашег куп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услов успеха често је и разумевање купца наших купаца и шта снабдевач може учинити да помогне свом кориснику  како би постао што успешнији у даљем односу са својим потенцијалним корисницим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цијални тржишни однос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ски насупрот односима на ди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„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mas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аркетингу” губи се блискост са купцем и однос са купцем се све виш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аљава , почива на истраживањима, статистици и писаним извештајим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с са незадовољним потрошач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адовољни потрошач очекује специјалан тип односа, интензивнији него у нормалној ситуацији, често је однос са оваквим купцем управљан лошим ставом према пружаоцу услуга. Начин решавања жалби може одредити квалитет будућих одно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0     Монополистички однос: купац или добављач као тала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да је конкурентност забрањена, онемогућена на било чијој страни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упчевој или добављачевој) , купац може бити у немилости добављача и  обрнут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таквој ситуацији једна страна постаје затвореник тј. талац друг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цијални тржишни однос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пац као ч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ачину креирања дугорочно подржаваних односа, уобичајено је да расте и регрутовање купаца за чланове развоја веома важног програма лојал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2    Е- од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лектронски однос, Е-однос, репрезентован путем интернета, електронске поште и мобилног телефона, је постављен против Х-односа, тзв. хуманог, људског односа. Концепт „високе технологије – високи људски контакти” постаје све значајнији како у управљању односима уопште, тако и у управљању односима са купцем посеб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3    Парасоцијални односи – односи перцепције брендова и обје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си не егзистирају само у односима људи ка објектима (предметима, производима), већ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такође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стоје и у односима људи према сликама и симболима као што су брендови и идентификације компани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цијални тржишни однос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4     Некомерцијални одно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о је однос између јавног сектора и грађана као потрошача, такође, укључује и разне ораганизације волонтаристичког карактера и остале активности  непрофитно  оријентисане економиј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ичне односе налазимо у оквиру породи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5     Зелени од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тања животне средине и здравља полако али сигурно повећавају значај и креирају нови тип односа са потрошачима кроз разне законе о заштити, уважавање мишљења водећих потрошача, мењање понашања и навика потрошача и развој односа купац – добављач у заокруживању процеса рециклирањ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цијални тржишни однос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6     Однос заснован на зако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с са потрошачем понекад почива на чврстим уговорима које добављач мора поштовати, како не би долазило до парничних поступа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Мрежа организованог кримин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овани криминал је заснован на чврстој и често “непромочивој” мрежи вођеној нелегалном пословном мисиј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а мрежа постоји широм света, различите је величине и брзине расте у различитим деловима, али она није уједно обрађена и довољно посматрана у теорији маркетин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е мреже могу да ометају функционисање целог тржишта или индустриј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га одно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чне и друштвене мре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е и друштвене мреже често одређују пословне мреж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еким културама, послови се закључују између пријатеља и пријатељевих пријатељ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1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га маркетинг – стварни “купац” се не може увек пронаћи на тржиш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одређеним случајевима, односи се морају тражити са политичким институцијама, владиним канцеларијама, креаторима законских регулатива, утицајним особама и другима, како би било могуће креирати маркетинг на оперативном ниво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га одно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вези мењању тржишни механ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вези означавају ближе односе и сарадњу између компаниј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ма томе, конкуренција је делимично сузбијена, али сарадња је неопходна за одржавање механизма тржишне економиј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ње може бити најзначајнији стратешки и критични ресур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озвана   „аквизиција знања”, често,  најзначајниј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ог за стварање саве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га одно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438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га савези мењају основне услове за обављање маркетинг активност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У и 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NAFT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 споразум о слободној трговини земаља Северне Америке) су примери савеза који се уздижу изнад појединих компанија и индустриј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ви савези егзистирају на владиним и вишенационалним нивои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си мас мед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ији могу бити подршка маркетингу, али исто тако могу и штетити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Њихов утицај у највећој мери се односи на формирање мишљења јавног мњењ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ос са медијима је одлучујући за начин како ће се медији поставити према одређеној те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 здрављ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760" y="150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 болести су излечиве, само нису излечиви сви болесниц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Emile Coue de Chatoignera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ранцуски психолог и фармацеут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1857-192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дицина је толико напредовала да практично више ниједан човек није здра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Aldous Leonard Hux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глески књижевник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1894-19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2857320"/>
            <a:ext cx="40384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A pill for every ill – </a:t>
            </a:r>
            <a:r>
              <a:rPr b="1" i="1" lang="sr-Latn-CS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- An ill for every pill?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но одно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жишни механизми се преносе унутар компан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ивањем профитних центара у организацији креира се тржиште унутар компаније и тако се ствара нова врста интерних, уз постојеће, екстерне однос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5     Односи са интерним потрошачи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ност између појединих делова и сектора у оквиру компаније посматра се као процес који опстаје на односима између интерних купаца и интерних добављач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но одно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6    Оријентација на квалитет и купца : однос између пословања менаџмента и  маркетин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деран концепт квалитета изградио је везу између дизајна, инжењеринга, производње и других технолошки засниваних активности и маркетин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зимају се у обзир  интерни односи компаније у истој мери као што се разматрају и односи са купци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7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рни маркетинг: односи са тзв. “тржиштем запослених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и маркетинг може се уочити као део управљања односима пошто он даје индиректну и неопходну подршку односима са екстерним купци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но одно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8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одимензионална матрица тј. мрежа одно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рице су најједноставније форме мрежа и постоје у свих великим корпорацијама и пре свега налазе се у односима између продукт менаџмента и продаје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2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си са екстерним пружаоцима маркетиншких услу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кстерни провајдери маркетиншких услуга појачавају функцију маркетинга обезбеђујући различите услуге,  као шту су услуге рекламних агенција и института за маркетиншка истраживања, али и услуге у области продаје и дистрибуциј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идесет постулата РМ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r>
              <a:rPr b="0" i="1" lang="sr-Latn-R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30Р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аптирано према: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Gummesson E. Total Relationship Marketing. Butterworth-Heinemann, New York, 2003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но одно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3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си власника и финансиј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ласници и други финансијери делимично одређују услове под којима маркетинг функција рад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си са њима утичу на маркетиншку стратеги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ilustracija1"/>
          <p:cNvPicPr/>
          <p:nvPr/>
        </p:nvPicPr>
        <p:blipFill>
          <a:blip r:embed="rId1"/>
          <a:stretch/>
        </p:blipFill>
        <p:spPr>
          <a:xfrm>
            <a:off x="4699080" y="0"/>
            <a:ext cx="444492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ilustracija17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бедна и делотворна фармакометриј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ционал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спр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птимал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50920" y="56563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рмакометрија је област проучавања методологије и примене модела за болести и фармаколошко мере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"/>
          <p:cNvPicPr/>
          <p:nvPr/>
        </p:nvPicPr>
        <p:blipFill>
          <a:blip r:embed="rId1"/>
          <a:srcRect l="0" t="8001" r="0" b="8001"/>
          <a:stretch/>
        </p:blipFill>
        <p:spPr>
          <a:xfrm>
            <a:off x="971640" y="189000"/>
            <a:ext cx="7200720" cy="666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rcRect l="0" t="19552" r="0" b="14884"/>
          <a:stretch/>
        </p:blipFill>
        <p:spPr>
          <a:xfrm>
            <a:off x="971640" y="647640"/>
            <a:ext cx="7200720" cy="558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Изазови са којима се суочава фармацеутски маркет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321264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ронт добрих усл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лементи маркетиншког прист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јам маркетин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ркетинш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ве функције фармацеутског маркетин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rcRect l="0" t="18500" r="0" b="0"/>
          <a:stretch/>
        </p:blipFill>
        <p:spPr>
          <a:xfrm>
            <a:off x="1042920" y="620640"/>
            <a:ext cx="7058160" cy="623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an Djuric</cp:lastModifiedBy>
  <dcterms:modified xsi:type="dcterms:W3CDTF">2022-12-29T07:57:54Z</dcterms:modified>
  <cp:revision>95</cp:revision>
  <dc:subject/>
  <dc:title>Slide 1</dc:title>
</cp:coreProperties>
</file>